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1024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AF1-078F-4A08-8B45-AA31BB7F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D25-8B80-4D4B-91C1-5F62D10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2A7-DEB0-4445-AEFB-79DCF4D9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41A-61FA-461A-936F-F66E0AFD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53B-7A68-4291-8C08-FE4DC0CF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3A3B-D965-4716-BBF9-BC24B5D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9F86-CE09-4684-BD77-581AA4DD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E7CE-8A51-4499-9D7B-4967E3FA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9C9-DBEC-4B99-9D00-6D8E09D0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7A1-DC26-4DA1-9D3C-43F216A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2BB-C336-4983-A648-0608A73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37A-7FBC-45B5-B82E-9A5519F3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50AE-B6AF-482B-AF2D-480CA20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E3DF-BE6C-4757-BB6E-7CD97392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C0FA-56D7-4EEE-876E-6F80328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0990-0555-4237-8572-BD5397D4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6EB-139D-4999-B6D9-58E7FD2B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2AD5-9ECE-48B0-BDF0-90D3EDA5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769E-C4B3-4B18-89D4-38A994F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9160-FAC5-406D-8AE5-0C7D5CFF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1795-F8E0-4FBF-8BB5-57A2311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6478-162B-43B9-BFF7-63AC75C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C8D-EB2E-43FE-94CC-6E4195A1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20FA-8BBA-4730-B97A-0717040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96BF-74CE-42C4-8A67-0554A44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40A2-205C-4C30-8E85-29F8A3D7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7A38-91B7-4D59-8ACA-DF37F4A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3E3B-0C49-40B7-A326-2C31AA0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82C9-623B-4CE7-B339-8D5804E4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5E56-1D49-4BC8-98D9-430C3DE5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7986-581A-4496-ADF1-11846C29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B59A-7B33-4578-B012-340110D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FF1D-C1EF-408C-89CA-F40F8F9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489-C7A6-42B3-958A-2030E52E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8FBF-E268-497A-A4FE-F6481EE9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7545-F6E3-4663-B037-3E6FE52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DF73-A505-4737-9C48-2D09846A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8A0C-D963-45C6-8496-1C2B981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A25A-8568-43C6-A954-A86BFA0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3592-E651-48F4-9A9E-863CCCD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2669-0224-4263-BDBA-EF53856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02AC-A598-487B-A915-758C9C32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1F26-C473-4CE8-BAA6-404BC10D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F7D-497C-4B27-B7DB-4935813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6EC-8E96-4471-A2F5-18A8D17F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A22-D530-4288-ADBE-5DABE66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869-86EA-4F15-AA03-A2CBE44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46C-FA4B-47DE-B552-5ACABD1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2E9-F5F9-48C5-8098-79EFA9A13D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D08-A5FD-4AF4-95CE-38377E3A0C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7A2D-5B35-4058-A303-9A7C66E78B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58E-A04E-4AC3-A17B-0CB3C14591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Poverty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lut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iv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 of li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ing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onomic sec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osable inc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pover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anada does not have a standard defini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solute 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Lacking the amount of money needed to meet basic needs such as food, clothing, and shelter. (Absolute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ative 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eople are poor if they fall below prevailing standards of living in a given societal context. (Relative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acking the amount of money necessary to meet basic needs such as food, clothing, and shelter. (Absolut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eople are poor if they fall below prevailing standards of living in a given societal context. (Relativ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lut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iv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 of li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ing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onomic sec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osable inc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23:30:56Z</dcterms:created>
  <dc:creator>ladmin</dc:creator>
  <dc:description/>
  <dc:language>en-US</dc:language>
  <cp:lastModifiedBy>Terry, Sean J. (ASD-E)</cp:lastModifiedBy>
  <cp:lastPrinted>2014-03-17T00:38:21Z</cp:lastPrinted>
  <dcterms:modified xsi:type="dcterms:W3CDTF">2015-10-26T03:20:56Z</dcterms:modified>
  <cp:revision>16</cp:revision>
  <dc:subject/>
  <dc:title>PowerPoint Presentation</dc:title>
</cp:coreProperties>
</file>